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352320" y="0"/>
            <a:ext cx="350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534160"/>
            <a:ext cx="2971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D6B5-7838-42F6-BE19-287381349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tretch/>
        </p:blipFill>
        <p:spPr>
          <a:xfrm>
            <a:off x="6307200" y="86104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5A64-0F1D-4F16-892E-F4C32019A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C0CA-1ACD-4043-A501-D4BB700B4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2335-D27B-4567-8CB0-99AF2038A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4656-052E-4D53-8D79-05E7E239C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CC7D-B8F2-41A3-BF03-FE5FA9A8C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32D8-582A-48CD-84FC-412DA80C5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5AD6-48FB-42D5-BF01-D7D5A1D32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5EC4-4F65-4AFE-94D0-FBCF848B0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9FE8-40C1-47D0-B594-A7D906EF4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3B3C-BA6E-4293-B3A4-0C53979E3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2627-4C12-4C78-8CB1-CEA1D9266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54BE-EE38-4261-93AF-A39EFADEF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F829-EED3-4AEC-806D-44E543C37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1EA2-EA2D-417A-9EE5-E08EE5807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Making Matri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Date Placeholder 4"/>
          <p:cNvSpPr/>
          <p:nvPr/>
        </p:nvSpPr>
        <p:spPr>
          <a:xfrm>
            <a:off x="3352680" y="0"/>
            <a:ext cx="35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to Engineering Desig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 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2 – Lesson 2.4 –  Advanced Desig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Footer Placeholder 5"/>
          <p:cNvSpPr/>
          <p:nvPr/>
        </p:nvSpPr>
        <p:spPr>
          <a:xfrm>
            <a:off x="0" y="8534520"/>
            <a:ext cx="2971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3C14-9B27-4463-8783-C91622369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2B3-5A9D-433C-828F-7A6041F9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BFF-BABF-455E-914E-CF48F747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4CF-33B8-479D-9DC0-8680DA3B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B20-EA3D-470A-8AED-3F66D7DC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3502-7A33-4156-8AC2-3B173A56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C666-1322-4727-BCE7-8555CD56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9C7A-A0DF-4D84-9B23-664CAEED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43B6-D3CD-4903-9ED0-6E007941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1509-3045-43C6-B8A3-5B3769F0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60F9-BBE8-4852-8790-51C99D8C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08A9-AC65-4CAF-A70E-92E16922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3E9-FD09-4916-A78C-92D11263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2289-2946-4A32-BDC6-71F366CF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49E0-620D-4A5E-B5E6-27C692FF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33DB-99B0-44A3-8019-7E69D0FF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1F83-70AD-45C2-82C5-E2B327F8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3112-E906-4153-9604-A56061A8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42F-8D33-47C1-B41B-3D2E0F42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810E-91AF-450E-9B4C-4022C7C8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FEA-DFBA-424A-8A4B-27C42F24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49A-3BFC-4B47-A003-2A6BDFD1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92F-ECBC-4C27-9033-49DF025A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D7C2-359F-473B-8458-F02DB3EE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C46-FC34-4443-B116-58944B7D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A4A5-3744-4D59-A005-312F4FCDC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64F2-DDC3-4657-8FB0-8C2238A265B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969840" y="97956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PLTW_MT_L_3Crgb.jpg"/>
          <p:cNvPicPr/>
          <p:nvPr/>
        </p:nvPicPr>
        <p:blipFill>
          <a:blip r:embed="rId1"/>
          <a:stretch/>
        </p:blipFill>
        <p:spPr>
          <a:xfrm>
            <a:off x="946080" y="1828800"/>
            <a:ext cx="7207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sugarcubes"/>
          <p:cNvPicPr/>
          <p:nvPr/>
        </p:nvPicPr>
        <p:blipFill>
          <a:blip r:embed="rId1"/>
          <a:stretch/>
        </p:blipFill>
        <p:spPr>
          <a:xfrm>
            <a:off x="4876920" y="1981080"/>
            <a:ext cx="3187440" cy="46483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533520" y="2438280"/>
            <a:ext cx="472428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ugar Cub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ly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g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messy gran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ly uniform geome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324080" y="105732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 #6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1371600" y="914400"/>
            <a:ext cx="508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ntifying Criter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" name="Group 55"/>
          <p:cNvGrpSpPr/>
          <p:nvPr/>
        </p:nvGrpSpPr>
        <p:grpSpPr>
          <a:xfrm>
            <a:off x="762120" y="2544840"/>
            <a:ext cx="7721640" cy="3822840"/>
            <a:chOff x="762120" y="2544840"/>
            <a:chExt cx="7721640" cy="3822840"/>
          </a:xfrm>
        </p:grpSpPr>
        <p:sp>
          <p:nvSpPr>
            <p:cNvPr id="137" name="Text Box 53"/>
            <p:cNvSpPr/>
            <p:nvPr/>
          </p:nvSpPr>
          <p:spPr>
            <a:xfrm>
              <a:off x="762120" y="2544840"/>
              <a:ext cx="3809880" cy="38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Reusability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Connections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Text Box 54"/>
            <p:cNvSpPr/>
            <p:nvPr/>
          </p:nvSpPr>
          <p:spPr>
            <a:xfrm>
              <a:off x="4703760" y="2546280"/>
              <a:ext cx="3780000" cy="28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Cleanliness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Resilience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Testability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randomBa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1371600" y="914400"/>
            <a:ext cx="65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Types of Criter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447840" y="2181240"/>
            <a:ext cx="8503920" cy="4535640"/>
            <a:chOff x="447840" y="2181240"/>
            <a:chExt cx="8503920" cy="4535640"/>
          </a:xfrm>
        </p:grpSpPr>
        <p:sp>
          <p:nvSpPr>
            <p:cNvPr id="141" name="Text Box 8"/>
            <p:cNvSpPr/>
            <p:nvPr/>
          </p:nvSpPr>
          <p:spPr>
            <a:xfrm>
              <a:off x="447840" y="2187720"/>
              <a:ext cx="3992400" cy="45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unc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Product life spa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evelopment time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ize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aterial cost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Text Box 9"/>
            <p:cNvSpPr/>
            <p:nvPr/>
          </p:nvSpPr>
          <p:spPr>
            <a:xfrm>
              <a:off x="4379760" y="2181240"/>
              <a:ext cx="4572000" cy="45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evelopment cost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anufacturing cost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Company standar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anufacturing capabilitie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afety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randomBar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1371600" y="9144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 a Decision Matri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69960" y="2468520"/>
            <a:ext cx="74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ding scale must be developed to assign values for each criteria categ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15"/>
          <p:cNvGrpSpPr/>
          <p:nvPr/>
        </p:nvGrpSpPr>
        <p:grpSpPr>
          <a:xfrm>
            <a:off x="504720" y="3838680"/>
            <a:ext cx="8102880" cy="2076480"/>
            <a:chOff x="504720" y="3838680"/>
            <a:chExt cx="8102880" cy="2076480"/>
          </a:xfrm>
        </p:grpSpPr>
        <p:pic>
          <p:nvPicPr>
            <p:cNvPr id="146" name="Picture 11" descr="decisionmatrix"/>
            <p:cNvPicPr/>
            <p:nvPr/>
          </p:nvPicPr>
          <p:blipFill>
            <a:blip r:embed="rId1"/>
            <a:srcRect l="15276" t="83728" r="0" b="0"/>
            <a:stretch/>
          </p:blipFill>
          <p:spPr>
            <a:xfrm>
              <a:off x="504720" y="5037120"/>
              <a:ext cx="81028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3"/>
            <p:cNvSpPr/>
            <p:nvPr/>
          </p:nvSpPr>
          <p:spPr>
            <a:xfrm>
              <a:off x="1784520" y="4295880"/>
              <a:ext cx="300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cc"/>
                  </a:solidFill>
                  <a:latin typeface="Arial"/>
                </a:rPr>
                <a:t>Rank Scal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14"/>
            <p:cNvSpPr/>
            <p:nvPr/>
          </p:nvSpPr>
          <p:spPr>
            <a:xfrm>
              <a:off x="6029280" y="3838680"/>
              <a:ext cx="2362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cc"/>
                  </a:solidFill>
                  <a:latin typeface="Arial"/>
                </a:rPr>
                <a:t>Question Scal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0" descr=""/>
          <p:cNvPicPr/>
          <p:nvPr/>
        </p:nvPicPr>
        <p:blipFill>
          <a:blip r:embed="rId1"/>
          <a:stretch/>
        </p:blipFill>
        <p:spPr>
          <a:xfrm>
            <a:off x="95400" y="2070000"/>
            <a:ext cx="8953200" cy="45417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1371600" y="9144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anking The Alternativ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52"/>
          <p:cNvGrpSpPr/>
          <p:nvPr/>
        </p:nvGrpSpPr>
        <p:grpSpPr>
          <a:xfrm>
            <a:off x="1593720" y="2971800"/>
            <a:ext cx="542880" cy="2930040"/>
            <a:chOff x="1593720" y="2971800"/>
            <a:chExt cx="542880" cy="2930040"/>
          </a:xfrm>
        </p:grpSpPr>
        <p:sp>
          <p:nvSpPr>
            <p:cNvPr id="152" name="Text Box 4"/>
            <p:cNvSpPr/>
            <p:nvPr/>
          </p:nvSpPr>
          <p:spPr>
            <a:xfrm>
              <a:off x="1600200" y="2971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Text Box 5"/>
            <p:cNvSpPr/>
            <p:nvPr/>
          </p:nvSpPr>
          <p:spPr>
            <a:xfrm>
              <a:off x="1600200" y="3352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6"/>
            <p:cNvSpPr/>
            <p:nvPr/>
          </p:nvSpPr>
          <p:spPr>
            <a:xfrm>
              <a:off x="1600200" y="3778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>
              <a:off x="1593720" y="4390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Text Box 8"/>
            <p:cNvSpPr/>
            <p:nvPr/>
          </p:nvSpPr>
          <p:spPr>
            <a:xfrm>
              <a:off x="1603440" y="50198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9"/>
            <p:cNvSpPr/>
            <p:nvPr/>
          </p:nvSpPr>
          <p:spPr>
            <a:xfrm>
              <a:off x="1596960" y="5442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" name="Group 53"/>
          <p:cNvGrpSpPr/>
          <p:nvPr/>
        </p:nvGrpSpPr>
        <p:grpSpPr>
          <a:xfrm>
            <a:off x="2476440" y="2965320"/>
            <a:ext cx="542880" cy="2930040"/>
            <a:chOff x="2476440" y="2965320"/>
            <a:chExt cx="542880" cy="2930040"/>
          </a:xfrm>
        </p:grpSpPr>
        <p:sp>
          <p:nvSpPr>
            <p:cNvPr id="159" name="Text Box 10"/>
            <p:cNvSpPr/>
            <p:nvPr/>
          </p:nvSpPr>
          <p:spPr>
            <a:xfrm>
              <a:off x="2482920" y="2965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2482920" y="3346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482920" y="3772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2476440" y="4384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2486160" y="5013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2479680" y="5435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5" name="Group 54"/>
          <p:cNvGrpSpPr/>
          <p:nvPr/>
        </p:nvGrpSpPr>
        <p:grpSpPr>
          <a:xfrm>
            <a:off x="3470400" y="2975040"/>
            <a:ext cx="542880" cy="2929680"/>
            <a:chOff x="3470400" y="2975040"/>
            <a:chExt cx="542880" cy="2929680"/>
          </a:xfrm>
        </p:grpSpPr>
        <p:sp>
          <p:nvSpPr>
            <p:cNvPr id="166" name="Text Box 16"/>
            <p:cNvSpPr/>
            <p:nvPr/>
          </p:nvSpPr>
          <p:spPr>
            <a:xfrm>
              <a:off x="3476520" y="2975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Text Box 17"/>
            <p:cNvSpPr/>
            <p:nvPr/>
          </p:nvSpPr>
          <p:spPr>
            <a:xfrm>
              <a:off x="3476520" y="3355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18"/>
            <p:cNvSpPr/>
            <p:nvPr/>
          </p:nvSpPr>
          <p:spPr>
            <a:xfrm>
              <a:off x="3476520" y="37814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19"/>
            <p:cNvSpPr/>
            <p:nvPr/>
          </p:nvSpPr>
          <p:spPr>
            <a:xfrm>
              <a:off x="3470400" y="43941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20"/>
            <p:cNvSpPr/>
            <p:nvPr/>
          </p:nvSpPr>
          <p:spPr>
            <a:xfrm>
              <a:off x="3479760" y="5022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21"/>
            <p:cNvSpPr/>
            <p:nvPr/>
          </p:nvSpPr>
          <p:spPr>
            <a:xfrm>
              <a:off x="3473280" y="544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2" name="Group 55"/>
          <p:cNvGrpSpPr/>
          <p:nvPr/>
        </p:nvGrpSpPr>
        <p:grpSpPr>
          <a:xfrm>
            <a:off x="4543560" y="2968560"/>
            <a:ext cx="542880" cy="2930040"/>
            <a:chOff x="4543560" y="2968560"/>
            <a:chExt cx="542880" cy="2930040"/>
          </a:xfrm>
        </p:grpSpPr>
        <p:sp>
          <p:nvSpPr>
            <p:cNvPr id="173" name="Text Box 22"/>
            <p:cNvSpPr/>
            <p:nvPr/>
          </p:nvSpPr>
          <p:spPr>
            <a:xfrm>
              <a:off x="4549680" y="2968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Text Box 23"/>
            <p:cNvSpPr/>
            <p:nvPr/>
          </p:nvSpPr>
          <p:spPr>
            <a:xfrm>
              <a:off x="4549680" y="3349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 Box 24"/>
            <p:cNvSpPr/>
            <p:nvPr/>
          </p:nvSpPr>
          <p:spPr>
            <a:xfrm>
              <a:off x="4549680" y="3774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Text Box 25"/>
            <p:cNvSpPr/>
            <p:nvPr/>
          </p:nvSpPr>
          <p:spPr>
            <a:xfrm>
              <a:off x="4543560" y="4387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4552920" y="5016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4546440" y="5438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56"/>
          <p:cNvGrpSpPr/>
          <p:nvPr/>
        </p:nvGrpSpPr>
        <p:grpSpPr>
          <a:xfrm>
            <a:off x="5632560" y="2978280"/>
            <a:ext cx="542880" cy="2929680"/>
            <a:chOff x="5632560" y="2978280"/>
            <a:chExt cx="542880" cy="2929680"/>
          </a:xfrm>
        </p:grpSpPr>
        <p:sp>
          <p:nvSpPr>
            <p:cNvPr id="180" name="Text Box 28"/>
            <p:cNvSpPr/>
            <p:nvPr/>
          </p:nvSpPr>
          <p:spPr>
            <a:xfrm>
              <a:off x="5638680" y="2978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Text Box 29"/>
            <p:cNvSpPr/>
            <p:nvPr/>
          </p:nvSpPr>
          <p:spPr>
            <a:xfrm>
              <a:off x="5638680" y="33591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Text Box 30"/>
            <p:cNvSpPr/>
            <p:nvPr/>
          </p:nvSpPr>
          <p:spPr>
            <a:xfrm>
              <a:off x="5638680" y="3784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Text Box 31"/>
            <p:cNvSpPr/>
            <p:nvPr/>
          </p:nvSpPr>
          <p:spPr>
            <a:xfrm>
              <a:off x="5632560" y="4397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Text Box 32"/>
            <p:cNvSpPr/>
            <p:nvPr/>
          </p:nvSpPr>
          <p:spPr>
            <a:xfrm>
              <a:off x="5641920" y="5025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Text Box 33"/>
            <p:cNvSpPr/>
            <p:nvPr/>
          </p:nvSpPr>
          <p:spPr>
            <a:xfrm>
              <a:off x="5635800" y="54482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" name="Group 57"/>
          <p:cNvGrpSpPr/>
          <p:nvPr/>
        </p:nvGrpSpPr>
        <p:grpSpPr>
          <a:xfrm>
            <a:off x="6642000" y="2971800"/>
            <a:ext cx="542880" cy="2930040"/>
            <a:chOff x="6642000" y="2971800"/>
            <a:chExt cx="542880" cy="2930040"/>
          </a:xfrm>
        </p:grpSpPr>
        <p:sp>
          <p:nvSpPr>
            <p:cNvPr id="187" name="Text Box 34"/>
            <p:cNvSpPr/>
            <p:nvPr/>
          </p:nvSpPr>
          <p:spPr>
            <a:xfrm>
              <a:off x="6648480" y="2971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6648480" y="3352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6648480" y="3778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Text Box 37"/>
            <p:cNvSpPr/>
            <p:nvPr/>
          </p:nvSpPr>
          <p:spPr>
            <a:xfrm>
              <a:off x="6642000" y="4390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Text Box 38"/>
            <p:cNvSpPr/>
            <p:nvPr/>
          </p:nvSpPr>
          <p:spPr>
            <a:xfrm>
              <a:off x="6651720" y="50198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Text Box 39"/>
            <p:cNvSpPr/>
            <p:nvPr/>
          </p:nvSpPr>
          <p:spPr>
            <a:xfrm>
              <a:off x="6645240" y="5442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Group 58"/>
          <p:cNvGrpSpPr/>
          <p:nvPr/>
        </p:nvGrpSpPr>
        <p:grpSpPr>
          <a:xfrm>
            <a:off x="7620120" y="2965320"/>
            <a:ext cx="542880" cy="2930040"/>
            <a:chOff x="7620120" y="2965320"/>
            <a:chExt cx="542880" cy="2930040"/>
          </a:xfrm>
        </p:grpSpPr>
        <p:sp>
          <p:nvSpPr>
            <p:cNvPr id="194" name="Text Box 40"/>
            <p:cNvSpPr/>
            <p:nvPr/>
          </p:nvSpPr>
          <p:spPr>
            <a:xfrm>
              <a:off x="7626240" y="296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Text Box 41"/>
            <p:cNvSpPr/>
            <p:nvPr/>
          </p:nvSpPr>
          <p:spPr>
            <a:xfrm>
              <a:off x="7626240" y="3346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Text Box 42"/>
            <p:cNvSpPr/>
            <p:nvPr/>
          </p:nvSpPr>
          <p:spPr>
            <a:xfrm>
              <a:off x="7626240" y="3772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Text Box 43"/>
            <p:cNvSpPr/>
            <p:nvPr/>
          </p:nvSpPr>
          <p:spPr>
            <a:xfrm>
              <a:off x="7620120" y="4384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Text Box 44"/>
            <p:cNvSpPr/>
            <p:nvPr/>
          </p:nvSpPr>
          <p:spPr>
            <a:xfrm>
              <a:off x="7629480" y="50133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45"/>
            <p:cNvSpPr/>
            <p:nvPr/>
          </p:nvSpPr>
          <p:spPr>
            <a:xfrm>
              <a:off x="7623000" y="5435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0" name="Group 59"/>
          <p:cNvGrpSpPr/>
          <p:nvPr/>
        </p:nvGrpSpPr>
        <p:grpSpPr>
          <a:xfrm>
            <a:off x="8312040" y="2975040"/>
            <a:ext cx="542880" cy="2929680"/>
            <a:chOff x="8312040" y="2975040"/>
            <a:chExt cx="542880" cy="2929680"/>
          </a:xfrm>
        </p:grpSpPr>
        <p:sp>
          <p:nvSpPr>
            <p:cNvPr id="201" name="Text Box 46"/>
            <p:cNvSpPr/>
            <p:nvPr/>
          </p:nvSpPr>
          <p:spPr>
            <a:xfrm>
              <a:off x="8318520" y="2975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47"/>
            <p:cNvSpPr/>
            <p:nvPr/>
          </p:nvSpPr>
          <p:spPr>
            <a:xfrm>
              <a:off x="8318520" y="3355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Text Box 48"/>
            <p:cNvSpPr/>
            <p:nvPr/>
          </p:nvSpPr>
          <p:spPr>
            <a:xfrm>
              <a:off x="8318520" y="37814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Text Box 49"/>
            <p:cNvSpPr/>
            <p:nvPr/>
          </p:nvSpPr>
          <p:spPr>
            <a:xfrm>
              <a:off x="8312040" y="43941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Text Box 50"/>
            <p:cNvSpPr/>
            <p:nvPr/>
          </p:nvSpPr>
          <p:spPr>
            <a:xfrm>
              <a:off x="8321760" y="5022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Text Box 51"/>
            <p:cNvSpPr/>
            <p:nvPr/>
          </p:nvSpPr>
          <p:spPr>
            <a:xfrm>
              <a:off x="8315280" y="544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randomBa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plasticcubes"/>
          <p:cNvPicPr/>
          <p:nvPr/>
        </p:nvPicPr>
        <p:blipFill>
          <a:blip r:embed="rId1"/>
          <a:stretch/>
        </p:blipFill>
        <p:spPr>
          <a:xfrm>
            <a:off x="5648400" y="1828800"/>
            <a:ext cx="3051000" cy="49528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533520" y="2255760"/>
            <a:ext cx="51656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decisions should be based on analysis and logic; not personal opin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decision matr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design tool that may be used multiple times throughout a design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324080" y="1057320"/>
            <a:ext cx="74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Right Decision: Idea #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cc"/>
                </a:solidFill>
                <a:latin typeface="Arial"/>
              </a:rPr>
              <a:t>Decision Making Matrix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066680" y="29718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king a Close Look at Preliminary Idea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371600" y="9144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 a Decision Matri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78000" y="2222640"/>
            <a:ext cx="35827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a50021"/>
                </a:solidFill>
                <a:latin typeface="Arial"/>
              </a:rPr>
              <a:t>decision matri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used to compare design solutions against one another, using specific criteria that are often based on project requirement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decisionmatrix"/>
          <p:cNvPicPr/>
          <p:nvPr/>
        </p:nvPicPr>
        <p:blipFill>
          <a:blip r:embed="rId1"/>
          <a:stretch/>
        </p:blipFill>
        <p:spPr>
          <a:xfrm>
            <a:off x="3921120" y="2678040"/>
            <a:ext cx="5006880" cy="28242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mockups1"/>
          <p:cNvPicPr/>
          <p:nvPr/>
        </p:nvPicPr>
        <p:blipFill>
          <a:blip r:embed="rId1"/>
          <a:stretch/>
        </p:blipFill>
        <p:spPr>
          <a:xfrm>
            <a:off x="3581280" y="2286000"/>
            <a:ext cx="5483520" cy="4113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1324080" y="1057320"/>
            <a:ext cx="7756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Identifying Ideas or Alternative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33520" y="2666880"/>
            <a:ext cx="3047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erial would be best for creating models of puzzle piec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lay"/>
          <p:cNvPicPr/>
          <p:nvPr/>
        </p:nvPicPr>
        <p:blipFill>
          <a:blip r:embed="rId1"/>
          <a:stretch/>
        </p:blipFill>
        <p:spPr>
          <a:xfrm>
            <a:off x="4883040" y="1905120"/>
            <a:ext cx="3392640" cy="46479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533520" y="2438280"/>
            <a:ext cx="457200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odeling Cla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ly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for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cise geome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324080" y="105732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 #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533520" y="2438280"/>
            <a:ext cx="480060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ramel Cub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ly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sha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cise geome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6" descr="caramel"/>
          <p:cNvPicPr/>
          <p:nvPr/>
        </p:nvPicPr>
        <p:blipFill>
          <a:blip r:embed="rId1"/>
          <a:stretch/>
        </p:blipFill>
        <p:spPr>
          <a:xfrm>
            <a:off x="5029200" y="1905120"/>
            <a:ext cx="310824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1324080" y="105732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 #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dice"/>
          <p:cNvPicPr/>
          <p:nvPr/>
        </p:nvPicPr>
        <p:blipFill>
          <a:blip r:embed="rId1"/>
          <a:stretch/>
        </p:blipFill>
        <p:spPr>
          <a:xfrm>
            <a:off x="4824360" y="1905120"/>
            <a:ext cx="3262320" cy="4647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533520" y="2438280"/>
            <a:ext cx="472428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2-sided ta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ly 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se geome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324080" y="105732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 #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plasticcubes"/>
          <p:cNvPicPr/>
          <p:nvPr/>
        </p:nvPicPr>
        <p:blipFill>
          <a:blip r:embed="rId1"/>
          <a:stretch/>
        </p:blipFill>
        <p:spPr>
          <a:xfrm>
            <a:off x="5029200" y="1828800"/>
            <a:ext cx="3051000" cy="4952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533520" y="2438280"/>
            <a:ext cx="472428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entimeter Cub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lo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r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se geome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324080" y="105732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 #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foamcubes"/>
          <p:cNvPicPr/>
          <p:nvPr/>
        </p:nvPicPr>
        <p:blipFill>
          <a:blip r:embed="rId1"/>
          <a:stretch/>
        </p:blipFill>
        <p:spPr>
          <a:xfrm>
            <a:off x="5016600" y="1905120"/>
            <a:ext cx="2993760" cy="4724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533520" y="2438280"/>
            <a:ext cx="472428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oam Block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2-sided ta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apart eas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cise geome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324080" y="105732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 #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5T17:47:48Z</dcterms:created>
  <dc:creator>Todd Dischinger and Brett Handley</dc:creator>
  <dc:description/>
  <cp:keywords>decision matrix</cp:keywords>
  <dc:language>en-US</dc:language>
  <cp:lastModifiedBy>Katie Donnan</cp:lastModifiedBy>
  <dcterms:modified xsi:type="dcterms:W3CDTF">2009-12-16T18:22:33Z</dcterms:modified>
  <cp:revision>53</cp:revision>
  <dc:subject>IED - Unit 2 - Lesson 2.4 Advanced Designs</dc:subject>
  <dc:title>Decision Making Matrix</dc:title>
</cp:coreProperties>
</file>